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45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  <a:r>
              <a:rPr b="0" sz="2450" spc="-1" strike="noStrike">
                <a:solidFill>
                  <a:srgbClr val="000000"/>
                </a:solidFill>
                <a:latin typeface="Arial"/>
                <a:ea typeface="msgothic"/>
              </a:rPr>
              <a:t>Main title</a:t>
            </a:r>
          </a:p>
        </c:rich>
      </c:tx>
      <c:layout>
        <c:manualLayout>
          <c:xMode val="edge"/>
          <c:yMode val="edge"/>
          <c:x val="0.351634211203569"/>
          <c:y val="0.02006207888560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022046838809"/>
          <c:y val="0.140737376031494"/>
          <c:w val="0.960109805267222"/>
          <c:h val="0.83920054508289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9999ff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13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5.38268</c:v>
                </c:pt>
                <c:pt idx="2">
                  <c:v>5.70711</c:v>
                </c:pt>
                <c:pt idx="3">
                  <c:v>5.92388</c:v>
                </c:pt>
                <c:pt idx="4">
                  <c:v>6</c:v>
                </c:pt>
                <c:pt idx="5">
                  <c:v>5.92388</c:v>
                </c:pt>
                <c:pt idx="6">
                  <c:v>5.70711</c:v>
                </c:pt>
                <c:pt idx="7">
                  <c:v>5.38268</c:v>
                </c:pt>
                <c:pt idx="8">
                  <c:v>5</c:v>
                </c:pt>
                <c:pt idx="9">
                  <c:v>4.61732</c:v>
                </c:pt>
                <c:pt idx="10">
                  <c:v>4.29289</c:v>
                </c:pt>
                <c:pt idx="11">
                  <c:v>4.07612</c:v>
                </c:pt>
                <c:pt idx="12">
                  <c:v>4</c:v>
                </c:pt>
                <c:pt idx="13">
                  <c:v>4.07612</c:v>
                </c:pt>
                <c:pt idx="14">
                  <c:v>4.29289</c:v>
                </c:pt>
                <c:pt idx="15">
                  <c:v>4.61732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993366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13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</c:v>
                </c:pt>
                <c:pt idx="1">
                  <c:v>2</c:v>
                </c:pt>
                <c:pt idx="2">
                  <c:v>2</c:v>
                </c:pt>
                <c:pt idx="3">
                  <c:v>2</c:v>
                </c:pt>
                <c:pt idx="4">
                  <c:v>1</c:v>
                </c:pt>
                <c:pt idx="5">
                  <c:v>1</c:v>
                </c:pt>
                <c:pt idx="6">
                  <c:v>2</c:v>
                </c:pt>
                <c:pt idx="7">
                  <c:v>2</c:v>
                </c:pt>
                <c:pt idx="8">
                  <c:v>1</c:v>
                </c:pt>
                <c:pt idx="9">
                  <c:v>1</c:v>
                </c:pt>
                <c:pt idx="10">
                  <c:v>2</c:v>
                </c:pt>
                <c:pt idx="11">
                  <c:v>2</c:v>
                </c:pt>
                <c:pt idx="12">
                  <c:v>1</c:v>
                </c:pt>
                <c:pt idx="13">
                  <c:v>1</c:v>
                </c:pt>
                <c:pt idx="14">
                  <c:v>2</c:v>
                </c:pt>
                <c:pt idx="15">
                  <c:v>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67977938"/>
        <c:axId val="77734690"/>
      </c:lineChart>
      <c:catAx>
        <c:axId val="67977938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none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3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77734690"/>
        <c:crossesAt val="0"/>
        <c:auto val="1"/>
        <c:lblAlgn val="ctr"/>
        <c:lblOffset val="100"/>
        <c:noMultiLvlLbl val="0"/>
      </c:catAx>
      <c:valAx>
        <c:axId val="77734690"/>
        <c:scaling>
          <c:orientation val="minMax"/>
        </c:scaling>
        <c:delete val="0"/>
        <c:axPos val="l"/>
        <c:numFmt formatCode="General" sourceLinked="1"/>
        <c:majorTickMark val="out"/>
        <c:minorTickMark val="none"/>
        <c:tickLblPos val="none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3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67977938"/>
        <c:crosses val="min"/>
        <c:crossBetween val="midCat"/>
      </c:valAx>
      <c:spPr>
        <a:noFill/>
        <a:ln w="0">
          <a:noFill/>
        </a:ln>
      </c:spPr>
    </c:plotArea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6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3800" y="210132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6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3800" y="4583880"/>
            <a:ext cx="27684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ts val="3263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59788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ts val="3263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5120" y="458388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120" y="2101320"/>
            <a:ext cx="41954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3880"/>
            <a:ext cx="85978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263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597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7360" indent="-2127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9360" indent="-20808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1000" indent="-2095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1000" indent="-2095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1000" indent="-20952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44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ts val="4011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  <a:ea typeface="msgothic"/>
              </a:rPr>
              <a:t>Communication and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yste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mputer Communic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the process by which two or more computers or devices transfer data, instructions, 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nding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device (e.g. modem, network c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channel – media over which the data is transmitted (e.g. coaxial, fiber, twisted-p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eiving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alog versus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5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nalog sign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continuous electron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igital signal – electronic pul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5145120" y="2101680"/>
          <a:ext cx="4195800" cy="4754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800" y="577800"/>
            <a:ext cx="860112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Area spanned by a Net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AN – Local are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AN – Wide are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AN – Metropolitan area (e.g. Winston-Salem N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ranet – uses Internet technology but is internal (priv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800" y="577800"/>
            <a:ext cx="860112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11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/Server – Server controls access to resources, Clients request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er-to-peer – machines have equal responsibilities for sharing and controlling access to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twork Topologies and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5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4760" y="2101680"/>
            <a:ext cx="4195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thernet – used primarily on LANs for computers to coordinate access to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ken Ring – a computing can access the network after it acquires the “tok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twork Technology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72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CP/IP – Transmission Control Protocol/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802.11 (b and g) – protocol used by wireless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6560" y="2101680"/>
            <a:ext cx="4197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uetooth – short-range (i.e. a few feet) radio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DA – short-range infra-red communication (require line of s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Transmissio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724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itsted-Pair Cable – 4 pairs of wires twisted (twisting cancels no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axial Cable – single copper wire insulated and surrounded by a braided me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6560" y="2101680"/>
            <a:ext cx="4197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ber-optic Cable – made ofglass or plastic strand with a reflective  covering.  Transmits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5993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ireless Transmissio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93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fra-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oadcast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llular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18960">
              <a:lnSpc>
                <a:spcPts val="3263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enaark</cp:lastModifiedBy>
  <dcterms:modified xsi:type="dcterms:W3CDTF">2008-10-11T05:03:56Z</dcterms:modified>
  <cp:revision>1</cp:revision>
  <dc:subject/>
  <dc:title>Chapter 9</dc:title>
</cp:coreProperties>
</file>